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A9C2-F414-4D44-8EF7-CBFEFE4B6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B01A-1486-4DF3-BF45-1C668683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6497-2783-49BA-A331-AD244C74F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58C7-0A03-4CB6-8C64-D1BBB575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3AFD-337C-4A5D-BE4E-181D0CC4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D92-1D40-44DB-8756-CD0851B0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639-14B4-45EC-92F2-5BF0F519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B99-250A-4089-9E12-498C44D3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F44-094C-4BAF-8679-E3D2536B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2C9-F127-4C8E-BBFC-028942B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FB9-DAE2-40F2-BA74-7D444D0C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CAC-C620-4354-A0D2-8E8B8D40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DA2-DFBA-4A77-A2D7-5856DD7E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C7A-B807-4BB4-8D03-42607362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A3B-1289-4C61-AD48-30AF76A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459-53FD-4C47-809E-D5A369FC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3F6-A5B4-4911-B839-5DCA8EF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29AA-70FD-47CB-A126-4E24AB09F741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23800" y="1643040"/>
            <a:ext cx="839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 Tx by resection and chemotherapy, presents 7 yrs later with head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bifront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grade III 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96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small high grade tumor in left parietal 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with grade IV tumor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Is cure possible?  How much is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447920" y="2217600"/>
            <a:ext cx="62578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st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684440" y="2244600"/>
            <a:ext cx="5803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presented with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gave a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immediate neurosurgical questions for managing this patient with low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7" name="Picture 7" descr="MPpreanatomy.tif"/>
          <p:cNvPicPr/>
          <p:nvPr/>
        </p:nvPicPr>
        <p:blipFill>
          <a:blip r:embed="rId1"/>
          <a:stretch/>
        </p:blipFill>
        <p:spPr>
          <a:xfrm>
            <a:off x="612720" y="2771640"/>
            <a:ext cx="8039160" cy="3289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8"/>
          <p:cNvCxnSpPr/>
          <p:nvPr/>
        </p:nvCxnSpPr>
        <p:spPr>
          <a:xfrm>
            <a:off x="1446840" y="3446280"/>
            <a:ext cx="89604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Box 9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T1+Gd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23800" y="164304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Low rCBV by DSC MR perfusion, no blood products except at biops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3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1643040"/>
            <a:ext cx="816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: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ical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are surgical margins determ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Spreop.jpg"/>
          <p:cNvPicPr/>
          <p:nvPr/>
        </p:nvPicPr>
        <p:blipFill>
          <a:blip r:embed="rId1"/>
          <a:stretch/>
        </p:blipFill>
        <p:spPr>
          <a:xfrm>
            <a:off x="1371600" y="1600200"/>
            <a:ext cx="5477040" cy="451332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"/>
          <p:cNvCxnSpPr/>
          <p:nvPr/>
        </p:nvCxnSpPr>
        <p:spPr>
          <a:xfrm>
            <a:off x="335268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0" name="Straight Arrow Connector 4"/>
          <p:cNvCxnSpPr/>
          <p:nvPr/>
        </p:nvCxnSpPr>
        <p:spPr>
          <a:xfrm>
            <a:off x="3386160" y="4053960"/>
            <a:ext cx="80568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" name="Straight Arrow Connector 6"/>
          <p:cNvCxnSpPr/>
          <p:nvPr/>
        </p:nvCxnSpPr>
        <p:spPr>
          <a:xfrm>
            <a:off x="513864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" name="Straight Arrow Connector 7"/>
          <p:cNvCxnSpPr/>
          <p:nvPr/>
        </p:nvCxnSpPr>
        <p:spPr>
          <a:xfrm>
            <a:off x="5184720" y="4053960"/>
            <a:ext cx="80712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" name="TextBox 8"/>
          <p:cNvSpPr/>
          <p:nvPr/>
        </p:nvSpPr>
        <p:spPr>
          <a:xfrm>
            <a:off x="2106720" y="3463920"/>
            <a:ext cx="43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1             T1+Gd           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2           T2-FLAIR         rC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2280" y="1066680"/>
            <a:ext cx="883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 year old female presenting with a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2: Post-op G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5"/>
          <p:cNvSpPr/>
          <p:nvPr/>
        </p:nvSpPr>
        <p:spPr>
          <a:xfrm>
            <a:off x="685800" y="7700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1608120" y="1643040"/>
            <a:ext cx="5894280" cy="491004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 flipV="1">
            <a:off x="4876920" y="164268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23800" y="1523880"/>
            <a:ext cx="8166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major behavioral changes and then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right hemisphere with hydrocephalus. Biopsy shows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 with low grade infiltrating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Is this resectable? Does it need debul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2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Grade II Oligoastrocytoma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3" name="Picture 3" descr="AMprepostRx.jpg"/>
          <p:cNvPicPr/>
          <p:nvPr/>
        </p:nvPicPr>
        <p:blipFill>
          <a:blip r:embed="rId1"/>
          <a:stretch/>
        </p:blipFill>
        <p:spPr>
          <a:xfrm>
            <a:off x="1641600" y="1978200"/>
            <a:ext cx="6635520" cy="4676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81360" y="2417760"/>
            <a:ext cx="155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e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ost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562120" y="407844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T1+Gd                    T2-F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7"/>
          <p:cNvCxnSpPr/>
          <p:nvPr/>
        </p:nvCxnSpPr>
        <p:spPr>
          <a:xfrm>
            <a:off x="3757680" y="1978200"/>
            <a:ext cx="805680" cy="71496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7" name="Straight Arrow Connector 8"/>
          <p:cNvCxnSpPr/>
          <p:nvPr/>
        </p:nvCxnSpPr>
        <p:spPr>
          <a:xfrm>
            <a:off x="5892840" y="1978200"/>
            <a:ext cx="80568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8" name="Straight Arrow Connector 9"/>
          <p:cNvCxnSpPr/>
          <p:nvPr/>
        </p:nvCxnSpPr>
        <p:spPr>
          <a:xfrm>
            <a:off x="1732320" y="1978200"/>
            <a:ext cx="67860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9" name="Straight Arrow Connector 10"/>
          <p:cNvCxnSpPr/>
          <p:nvPr/>
        </p:nvCxnSpPr>
        <p:spPr>
          <a:xfrm flipH="1" flipV="1">
            <a:off x="7686360" y="6019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0" name="Straight Arrow Connector 15"/>
          <p:cNvCxnSpPr/>
          <p:nvPr/>
        </p:nvCxnSpPr>
        <p:spPr>
          <a:xfrm flipH="1" flipV="1">
            <a:off x="7681680" y="3733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36Z</dcterms:modified>
  <cp:revision>80</cp:revision>
  <dc:subject/>
  <dc:title>PowerPoint Presentation</dc:title>
</cp:coreProperties>
</file>